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D5D-8F06-4F43-B52B-499C786B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B6D-D69E-46B7-95E2-A1A57DAE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309-CECB-45A3-A833-E6FE4232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921-2221-41AF-903E-455A4EE7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F3FC-5140-4A99-A734-393CE71A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7C00-A1EE-4C83-AF91-2DE4DA9E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A8E7-53A7-45B3-B546-DF173F31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CD3B-8A83-416A-8A03-965E87C1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4962-5F95-44E8-8AB0-B9A8F2AE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1E82-DCB6-4039-80F5-9F022984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50D2-D821-40C1-8F0B-23C090B5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127-8DBA-49EE-A539-63358395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8D47-17D5-45EE-A6C3-CE25118D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16A0-F47C-434E-A5C2-217625BD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69A1-55BC-4804-8F9A-7A8D4A7C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DBD6-4C80-49E1-8671-27C94771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C18C-040D-4E39-B39F-73E45BB2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C56-45B0-4743-AA08-9B773735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917-D726-4CE1-8B25-238BAE3B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E51-A8BE-43FE-A3E8-AF14A13B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D2E-9D43-41B0-B3DE-E95ED464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F95-FB8D-4204-8473-14A19932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67B-D755-4110-8568-265B2626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84D-D3EA-4845-9751-707771E7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Šibenik, 19. lipnja 2009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DC4E-BC17-4C9F-BC49-02FC6DB889A4}" type="slidenum">
              <a:rPr b="0" lang="hr-H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Šibenik, 19. lipnja 2009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1D67-BCD3-4B96-B2C4-9B40EB6295D9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2200320" y="500040"/>
            <a:ext cx="47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Интегрисане академске студије стоматолог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324000" y="198900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ДУЛ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тика медицинске профес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835280" y="3357720"/>
            <a:ext cx="55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15. наставна јединица (петнаеста недеља)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тика у здравству у контексту водећих правних пропис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423400" y="6019920"/>
            <a:ext cx="352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Доц. др Владимир Шебе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Доц. др Бранимир Радманов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Šibenik, 19. lipnja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7B3E-A8BB-4EEB-8138-213496F5B45A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-1981080" y="93600"/>
            <a:ext cx="13716000" cy="67644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1752480" y="3733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Оваква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комуникација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br>
              <a:rPr sz="3200"/>
            </a:b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није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ником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потребна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-1676520" y="76320"/>
            <a:ext cx="1082052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6324480" y="2819520"/>
            <a:ext cx="2743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јер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ћ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e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н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претворит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у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990000"/>
                </a:solidFill>
                <a:latin typeface="Georgia"/>
              </a:rPr>
              <a:t>ОВ</a:t>
            </a:r>
            <a:r>
              <a:rPr b="1" i="1" lang="en-US" sz="3200" spc="-1" strike="noStrike">
                <a:solidFill>
                  <a:srgbClr val="990000"/>
                </a:solidFill>
                <a:latin typeface="Georgia"/>
              </a:rPr>
              <a:t>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4361-AAA8-4B09-8981-6B6BB4C2C974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5909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Законске обавезе у вези са комуникацијом са пацијентом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авни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описи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Регулишу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у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најширем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смислу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рад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на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заштити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и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унапређењу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здравља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тј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подручје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рада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и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активности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медицинских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рад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ењају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д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тицајем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руштвен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економск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ултурн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руг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рилик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руштвен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једниц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настоји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заштити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права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интересе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својих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члан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спостављ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спољашња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контрол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над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радом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едицинск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рад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КОН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ДРАВСТВЕНОЈ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ШТ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КОН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РАВИМ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АЦИЈЕ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ЗАКОН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ПРАВИМ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ДУШЕВНО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ОБОЛЕЛИХ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РИВИЧН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КО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7268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КОНСКА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АВА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АВЕЗЕ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ДРАВСТВЕНИХ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АДНИКА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ДРАВСТВЕНИМ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ТАНОВАМА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Колико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мо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упознат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законским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прави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обавеза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Колико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у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пацијент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у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здравственим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установа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упознат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прави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обавеза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вим законом уређују се права пацијената приликом коришћења здравствене заштите, начин остваривања права и начин заштите тих права, као и друга питања везана за права, обавезе и одговорности пацијен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Пацијенту се гарантује једнако право на квалитетну и континуирану здравствену зашти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Остваривање овог права заснива се на партнерском односу пацијента као примаоца здравствених услуга и здравственог радника као даваоца здравствених услу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Партнерски однос подразумева међусобно поверење и поштовање између пацијента и здравственог радника на свим нивоима здравствене зашти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Закон се примењује на све здравствене установе, приватну праксу и друга правна л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83772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RS" sz="2200" spc="-1" strike="noStrike">
                <a:solidFill>
                  <a:srgbClr val="ffffff"/>
                </a:solidFill>
                <a:latin typeface="Tahoma"/>
              </a:rPr>
              <a:t>ПРАВО НА ОБАВЕШТЕЊ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има право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да од надлежног здравственог радника благовремено добије</a:t>
            </a:r>
            <a:r>
              <a:rPr b="0" lang="sr-Latn-R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обавештењ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које му је потребно како би донео одлуку да пристане или не пристане на</a:t>
            </a:r>
            <a:r>
              <a:rPr b="0" lang="sr-Latn-R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едложену медицинску меру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авештење из става 1. овог члана обухвата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дијагнозу и прогнозу болести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кратак опис, циљ и корист од предложене медицинск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ере,   време трајања и могуће последице предузимања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дносно непредузимања предложене медицинске мере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врсту и вероватноћу могућих ризика, болне и друг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поредне или трајне последице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4) алтернативне методе лечења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5) могуће промене пацијентовог стања после предузимања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едложене медицинске мере, као и могуће нужне промен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у начину живота пацијената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6) дејство лекова и могуће споредне последице тог дејств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ПРАВО НА ПРИСТАНА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 има право да слободно одлучује о свему што се тиче његовог живота и</a:t>
            </a:r>
            <a:r>
              <a:rPr b="0" lang="sr-Latn-R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дравља, осим у случајевима када то директно угрожава живот и здравље других лиц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Без пристанка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а не сме се, по правилу, над њим предузети никаква медицинска</a:t>
            </a:r>
            <a:r>
              <a:rPr b="0" lang="sr-Latn-R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ер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 може дати пристанак на предложену медицинску меру изричито (усмено или писмено), односно прећутно (ако се није изричито противио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, који је способан за расуђивање,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има право да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едложену медицинску меру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дбиј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чак и у случају када се њоме спасава или одржава његов живот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длежни здравствени радник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дужан ј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да пацијенту укаже на последице његове одлуке о одбијању предложене медицинске мере, и да о томе од пацијента затражи писмену изјаву која се мора чувати у медицинској документацији, а ако пацијент одбије давање писмене изјаве, о томе ће сачинити службену белешку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907920"/>
            <a:ext cx="88394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ПРАВО НА ПРИСТАНАК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Над пацијентом који је без свести, или из других разлога није у стању да саопшти свој пристанак, хитна медицинска мера може се предузети и без његовог пристанка, о чему ће се обавестити чланови уже породице, увек када је то могућ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Медицинска мера из става 1. овог члана у здравственој установи, предузима се на основу конзилијарног налаз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ПРАВО ДА НА СОПСТВЕНУ ОДГОВОРНОСТ НАПУ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СТАЦИОНАРНУ ЗДРАВСТВЕНУ  УСТАНО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1) Пацијент има право да на сопствену одговорност напусти стационарну здравствену установу, осим у случајевима прописаним посебним законо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2) О намери напуштања стационарне здравствене установе из става 1. овог члана, пацијент је дужан да дâ писмену изјаву, која се чува у медицинској документацији пацијент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3) Податак о напуштању стационарне здравствене установе без најаве пацијента, надлежни здравствени радник обавезан је да упише у медицинску документацију пацијент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175013</dc:creator>
  <dc:description/>
  <dc:language>en-US</dc:language>
  <cp:lastModifiedBy>Windows User</cp:lastModifiedBy>
  <dcterms:modified xsi:type="dcterms:W3CDTF">2021-01-31T11:10:19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